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8A827-0C8D-479D-96A8-E8BAF1ACB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2783C-B06F-450F-9A50-054097A64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DE1F2-4468-4E5B-A4DD-3D3E2C2CE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A4449-0BB0-4EA4-BA05-32E008830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FF8DC-2F33-450C-B891-F26535BAD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EE374-348D-411A-B968-4845D5DB0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09E44-DC4E-4A1D-B606-6A93D55F4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4D651-7FA8-4861-B520-553613645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BDB0E-5683-42BA-B4A8-8443ABD82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7DA41-846D-4792-A503-39644A209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D4C59-115E-4AB2-86F9-FCD946059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52F78-7BA4-404D-9D60-9DE1A7C44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F29F-1356-47CC-8913-F654A7A9D364}"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6640"/>
            <a:ext cx="7772400" cy="40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600" spc="-1" strike="noStrike">
                <a:solidFill>
                  <a:srgbClr val="000000"/>
                </a:solidFill>
                <a:latin typeface="Calibri"/>
              </a:rPr>
              <a:t>Site And Situation</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Defence</a:t>
            </a:r>
            <a:endParaRPr b="0" lang="en-US" sz="44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ther common natural feature used for defence is water, and in particular riv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Shrewsbury and Durham are very good examples of where a </a:t>
            </a:r>
            <a:r>
              <a:rPr b="1" lang="en-US" sz="3200" spc="-1" strike="noStrike">
                <a:solidFill>
                  <a:srgbClr val="000000"/>
                </a:solidFill>
                <a:latin typeface="Calibri"/>
              </a:rPr>
              <a:t>meander </a:t>
            </a:r>
            <a:r>
              <a:rPr b="0" lang="en-US" sz="3200" spc="-1" strike="noStrike">
                <a:solidFill>
                  <a:srgbClr val="000000"/>
                </a:solidFill>
                <a:latin typeface="Calibri"/>
              </a:rPr>
              <a:t>of the river has formed an area of land bounded by water on three sid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rovided both cities with excellent defences, as they only had a thin neck of land to defe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Resources</a:t>
            </a:r>
            <a:endParaRPr b="0" lang="en-US" sz="4400" spc="-1" strike="noStrike">
              <a:solidFill>
                <a:srgbClr val="000000"/>
              </a:solidFill>
              <a:latin typeface="Calibri"/>
            </a:endParaRPr>
          </a:p>
        </p:txBody>
      </p:sp>
      <p:sp>
        <p:nvSpPr>
          <p:cNvPr id="61"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idea of resources covers a huge number of different thing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r early settlers the most important resources were </a:t>
            </a:r>
            <a:r>
              <a:rPr b="1" lang="en-US" sz="2900" spc="-1" strike="noStrike">
                <a:solidFill>
                  <a:srgbClr val="000000"/>
                </a:solidFill>
                <a:latin typeface="Calibri"/>
              </a:rPr>
              <a:t>fuel</a:t>
            </a:r>
            <a:r>
              <a:rPr b="0" lang="en-US" sz="2900" spc="-1" strike="noStrike">
                <a:solidFill>
                  <a:srgbClr val="000000"/>
                </a:solidFill>
                <a:latin typeface="Calibri"/>
              </a:rPr>
              <a:t>,</a:t>
            </a:r>
            <a:r>
              <a:rPr b="1" lang="en-US" sz="2900" spc="-1" strike="noStrike">
                <a:solidFill>
                  <a:srgbClr val="000000"/>
                </a:solidFill>
                <a:latin typeface="Calibri"/>
              </a:rPr>
              <a:t> building materials</a:t>
            </a:r>
            <a:r>
              <a:rPr b="0" lang="en-US" sz="2900" spc="-1" strike="noStrike">
                <a:solidFill>
                  <a:srgbClr val="000000"/>
                </a:solidFill>
                <a:latin typeface="Calibri"/>
              </a:rPr>
              <a:t>and </a:t>
            </a:r>
            <a:r>
              <a:rPr b="1" lang="en-US" sz="2900" spc="-1" strike="noStrike">
                <a:solidFill>
                  <a:srgbClr val="000000"/>
                </a:solidFill>
                <a:latin typeface="Calibri"/>
              </a:rPr>
              <a:t>food</a:t>
            </a:r>
            <a:r>
              <a:rPr b="0" lang="en-US" sz="2900" spc="-1" strike="noStrike">
                <a:solidFill>
                  <a:srgbClr val="000000"/>
                </a:solidFill>
                <a:latin typeface="Calibri"/>
              </a:rPr>
              <a:t>.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ttlements grew in areas where wood was plentiful, stone easily accessible and good soil allowed agriculture to be developed.</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nce those early days of settlement many different resources have become the focal points for the growth of urban areas.</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Mining</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al mines of South Wales, Tin mines of Cornwall and large mining projects as seen at Carajas in Northern Brazil, have all encouraged the rapid growth of settlements aimed at housing the workers and providing them with all that they requi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Food, Oil, And Metals</a:t>
            </a:r>
            <a:endParaRPr b="0" lang="en-US" sz="4400" spc="-1" strike="noStrike">
              <a:solidFill>
                <a:srgbClr val="000000"/>
              </a:solidFill>
              <a:latin typeface="Calibri"/>
            </a:endParaRPr>
          </a:p>
        </p:txBody>
      </p:sp>
      <p:sp>
        <p:nvSpPr>
          <p:cNvPr id="65"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farming area of East Anglia is one example of how small settlements will locate in areas conducive to good agriculture.</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ttlements in Alaska and the Middle East have grown rapidly on the back of the oil industry.</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ttlements in South Africa have grown after the discovery of large deposits of precious metals such as gold. The most famous settlement to grow due to finding gold is San Francisco, after the gold rush to California in 1849.</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ite</a:t>
            </a:r>
            <a:endParaRPr b="0" lang="en-US" sz="4400" spc="-1" strike="noStrike">
              <a:solidFill>
                <a:srgbClr val="000000"/>
              </a:solidFill>
              <a:latin typeface="Calibri"/>
            </a:endParaRPr>
          </a:p>
        </p:txBody>
      </p:sp>
      <p:sp>
        <p:nvSpPr>
          <p:cNvPr id="4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ite</a:t>
            </a:r>
            <a:r>
              <a:rPr b="0" lang="en-US" sz="3200" spc="-1" strike="noStrike">
                <a:solidFill>
                  <a:srgbClr val="000000"/>
                </a:solidFill>
                <a:latin typeface="Calibri"/>
              </a:rPr>
              <a:t> of a settlement describes the physical nature of where it is loca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such as water supply, building materials, quality of soil, climate, shelter and defence were all considered when settlements were first establish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instance the site of Sydney, in Australia, initially took advantage of the excellent natural harbour and surrounding fertile farml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Paris</a:t>
            </a:r>
            <a:endParaRPr b="0" lang="en-US" sz="4400" spc="-1" strike="noStrike">
              <a:solidFill>
                <a:srgbClr val="000000"/>
              </a:solidFill>
              <a:latin typeface="Calibri"/>
            </a:endParaRPr>
          </a:p>
        </p:txBody>
      </p:sp>
      <p:sp>
        <p:nvSpPr>
          <p:cNvPr id="45"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is was established at a point where an island allowed an easier passage across the river Seine as well as providing defence, fishing, transport, and drinking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a huge number of factors that have to be considered when trying to locate a new settle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can be grouped into four broad headings: climatic, economic, physical and tradit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Aspect</a:t>
            </a:r>
            <a:endParaRPr b="0" lang="en-US" sz="4400" spc="-1" strike="noStrike">
              <a:solidFill>
                <a:srgbClr val="000000"/>
              </a:solidFill>
              <a:latin typeface="Calibri"/>
            </a:endParaRPr>
          </a:p>
        </p:txBody>
      </p:sp>
      <p:sp>
        <p:nvSpPr>
          <p:cNvPr id="47"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pect relates to the direction in which the land fa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Northern Hemisphere the best slopes to locate on are those that face south, as they will receive the most sunshine, and therefore be best for agricultu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an be seen clearly in many of the valleys of the Alps, where settlements have located on the south-facing slop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Shelter</a:t>
            </a:r>
            <a:endParaRPr b="0" lang="en-US" sz="4400" spc="-1" strike="noStrike">
              <a:solidFill>
                <a:srgbClr val="000000"/>
              </a:solidFill>
              <a:latin typeface="Calibri"/>
            </a:endParaRPr>
          </a:p>
        </p:txBody>
      </p:sp>
      <p:sp>
        <p:nvSpPr>
          <p:cNvPr id="49" name=""/>
          <p:cNvSpPr txBox="1"/>
          <p:nvPr/>
        </p:nvSpPr>
        <p:spPr>
          <a:xfrm>
            <a:off x="457200" y="1599840"/>
            <a:ext cx="8229600" cy="5257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helter is also very important, particularly from the cold northerly winds and prevailing southwesterly winds in the UK.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 good example of settlements being sheltered by their natural surroundings are the many spring-line settlements found along the base of the chalk escarpments of the North and South Down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se settlements would also have benefited from the good water source and fertile farmland nearby.</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ater Supply</a:t>
            </a:r>
            <a:endParaRPr b="0" lang="en-US" sz="4400" spc="-1" strike="noStrike">
              <a:solidFill>
                <a:srgbClr val="000000"/>
              </a:solidFill>
              <a:latin typeface="Calibri"/>
            </a:endParaRPr>
          </a:p>
        </p:txBody>
      </p:sp>
      <p:sp>
        <p:nvSpPr>
          <p:cNvPr id="51"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supply of water</a:t>
            </a:r>
            <a:r>
              <a:rPr b="0" lang="en-US" sz="3200" spc="-1" strike="noStrike">
                <a:solidFill>
                  <a:srgbClr val="000000"/>
                </a:solidFill>
                <a:latin typeface="Calibri"/>
              </a:rPr>
              <a:t> was probably the single most important factor in deciding where a settlement might be loca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only do rivers provide a source of clean drinking water, they also provided a food source through fishing, and a transport rou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the world's largest cities are located on rivers, especially the point at which they reach the sea, as this was often the first point that explorers lan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Dry Point Site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ater</a:t>
            </a:r>
            <a:r>
              <a:rPr b="0" lang="en-US" sz="3200" spc="-1" strike="noStrike">
                <a:solidFill>
                  <a:srgbClr val="000000"/>
                </a:solidFill>
                <a:latin typeface="Calibri"/>
              </a:rPr>
              <a:t> is vital to a settlement and is the most common factor behind their loca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ry point site is one that is slightly raised from the surrounding area, meaning that it is less likely to floo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y in Norfolk is a good example of th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Wet Point Sites</a:t>
            </a:r>
            <a:endParaRPr b="0" lang="en-US" sz="4400" spc="-1" strike="noStrike">
              <a:solidFill>
                <a:srgbClr val="000000"/>
              </a:solidFill>
              <a:latin typeface="Calibri"/>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efers to any site that has access to water, usually through being beside a riv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wns would either grow up along the river or clustered near the point at which the river enters the se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of wet point sites include the towns and villages of the Welsh valleys, which tend to extend along the flat valley floor, rather than up the steep valley sid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ring line settlements in the North and South Downs are also good examples of wet point si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000000"/>
                </a:solidFill>
                <a:uFillTx/>
                <a:latin typeface="Calibri"/>
              </a:rPr>
              <a:t>Defence</a:t>
            </a:r>
            <a:endParaRPr b="0" lang="en-US" sz="4400" spc="-1" strike="noStrike">
              <a:solidFill>
                <a:srgbClr val="000000"/>
              </a:solidFill>
              <a:latin typeface="Calibri"/>
            </a:endParaRPr>
          </a:p>
        </p:txBody>
      </p:sp>
      <p:sp>
        <p:nvSpPr>
          <p:cNvPr id="57" name=""/>
          <p:cNvSpPr txBox="1"/>
          <p:nvPr/>
        </p:nvSpPr>
        <p:spPr>
          <a:xfrm>
            <a:off x="457200" y="1599840"/>
            <a:ext cx="8229600" cy="52578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medieval times </a:t>
            </a:r>
            <a:r>
              <a:rPr b="1" lang="en-US" sz="2700" spc="-1" strike="noStrike">
                <a:solidFill>
                  <a:srgbClr val="000000"/>
                </a:solidFill>
                <a:latin typeface="Calibri"/>
              </a:rPr>
              <a:t>defence</a:t>
            </a:r>
            <a:r>
              <a:rPr b="0" lang="en-US" sz="2700" spc="-1" strike="noStrike">
                <a:solidFill>
                  <a:srgbClr val="000000"/>
                </a:solidFill>
                <a:latin typeface="Calibri"/>
              </a:rPr>
              <a:t> was one of the most important factors influencing the site of a settlement.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relief (shape) of the land often proved to be the best form of defenc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dinburgh castle sits on the top of a glacial crag, in an almost perfect position to defend itself, with very little chance for the attackers.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Italy, there are many walled hill-top villages, whilst the Maoris in New Zealand built their settlements (called Pa's) on the top of steep hills to prevent being attacke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22:20:58Z</dcterms:created>
  <dc:creator>Dell_02</dc:creator>
  <dc:description/>
  <dc:language>en-US</dc:language>
  <cp:lastModifiedBy>Dell_02</cp:lastModifiedBy>
  <dcterms:modified xsi:type="dcterms:W3CDTF">2011-01-25T23:21:25Z</dcterms:modified>
  <cp:revision>5</cp:revision>
  <dc:subject/>
  <dc:title>Site And Situation</dc:title>
</cp:coreProperties>
</file>